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71EE-5BCC-4DD7-B660-D53E4E79E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371600" y="411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A016-A142-46BE-8878-A28847C2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11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1560" y="411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0B0A-7710-4E75-B3B0-695D418AE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35560" y="3203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99880" y="3203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371600" y="411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35560" y="411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99880" y="411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D07F-599C-4AC4-BF43-F4C6AE399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EA7C3-4C8E-4C41-8F3C-2624710A9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D5919-2759-45C6-9AE7-717D5E83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2993-45FA-4BAF-B6F7-501C1E68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51560" y="320364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50574-FB48-466E-A904-1F937E03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2509-684A-4EE3-9762-A8D1828B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D721-433F-4BFA-98E3-2E75FAF5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20364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371600" y="411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6D58-6F21-4963-8961-C55454C5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753D-B6FB-402C-BD18-5AE65323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51560" y="411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5EFC9-775C-42FA-B0D7-CD3500DD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156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371600" y="411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0BA6-BBDA-4EFA-BE22-C4E39B29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371600" y="411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0A344-AC33-4F81-970C-FFC79E43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156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371600" y="411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51560" y="411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C984B-13B3-4B73-BE83-34B538939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535560" y="3203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699880" y="3203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371600" y="411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535560" y="411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699880" y="411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3C7E-646F-44D9-9531-6419B19FC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1975-DC57-475D-BB54-5B536BA8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20364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F19F-02E2-48D9-900B-13F0D5D2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9F05-7508-4B61-BEAB-007B39AB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2748-E30A-4F57-B11C-92DE340E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20364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371600" y="411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C71C-CEC8-41A7-B824-032C577D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1560" y="411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85CF-6483-497C-8134-16B9DE09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203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11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B09A-B1ED-4D99-8DBB-9F556909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BBC2-F158-47E8-B704-464FC050B3F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2EB8-8FB2-4112-B6BC-1C85EFA9732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Hillsborough Township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ublic School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signing a Performance Pay Plan for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strict Administr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953480" y="5667480"/>
            <a:ext cx="119052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228240" y="121932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-685800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raft Value State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ccam’s Raz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pack and Understan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ssessment Syst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valuation Syst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pensation Syst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D Syst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rategic Planning Proce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is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oard &amp; Administ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953480" y="5667480"/>
            <a:ext cx="119052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153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Administrative Debrief - Strengths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228240" y="121932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953480" y="5667480"/>
            <a:ext cx="1190520" cy="11905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04920" y="1219320"/>
            <a:ext cx="853416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sitive &amp; Respectful District Cul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utual Respect/Admiration Between Board/Adm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alented &amp; Experienced Admin &amp;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ell Intentioned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T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able Comm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sitive Community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illingness to Experiment &amp; L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Administrative Debrief - Challenges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228240" y="121932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953480" y="5667480"/>
            <a:ext cx="1190520" cy="11905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04920" y="1143000"/>
            <a:ext cx="85341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certainty of Mo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egal/Contractual Ques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udget Shortfalls in the Near Fu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ushing Existing Systems &amp; Expert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uch to Do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Administrative Debrief - Challenges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228240" y="121932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953480" y="5667480"/>
            <a:ext cx="1190520" cy="11905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52280" y="838080"/>
            <a:ext cx="8991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air - Reasonable, Expected, Systematic, Passes Straight Face Test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rket Based &amp; Market Sensitiv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motes Retent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Enhances Recruitment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ands Up to Public Criticis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ransparent - Clear &amp; Understandabl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Values Student Achievement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larifies Expectation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bjective as Possibl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ata Drive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Uses Multiple Measure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chievable Goal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hallenging Goal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ignificant Reward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 Adaptive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motes Professional Growth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Enhances Prestige of the District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roves Data System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Generates Meaningful Conversation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verview for Toda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troduc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rient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rm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cision Making Mod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ikis in 500 Words or Les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rformance Pay Prim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fine Values/Priorit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fine Procedures/Proce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t Targets Goa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953480" y="5667480"/>
            <a:ext cx="119052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ntroductions!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ason E. Gla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rmer HS Teacher in K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 Dept Edu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nior Consultant – Research &amp; Ev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incipal Consultant – Student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Qualistar Early Learn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P Quality Ratings Divis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agle County Schoo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rector of Research &amp;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rector of H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A Poli Sc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 Edu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 Public Polic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DD Education Leadership (Fingers Crossed!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953480" y="5667480"/>
            <a:ext cx="119052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rienta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oup Norm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isting or Develop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cision Making Mod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sensus Based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jority Rules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oberts Rules of Order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953480" y="5667480"/>
            <a:ext cx="119052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ikis!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-685800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r journey will be documented through an interactive and collaborative online tool called a “wiki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r wiki is located here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8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85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ttp://hillsboroughperformancepay.wikispaces.com/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953480" y="5667480"/>
            <a:ext cx="119052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erformance Pay Prime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6840" y="9907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-68580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is this called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rit Pay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formance Pay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rategic Compensation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85800" indent="-68580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Kinds of Plans Exist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ason’s Typolog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85800" indent="-68580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 Steps to Developing a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fine Values/Priorities for the Pl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fine Procedures of the Pl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t Targets and Goa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953480" y="5667480"/>
            <a:ext cx="119052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erformance Pay Prime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-685800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ep 1 –Define Values/Priorit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Exampl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ai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ranspar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chiev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rket Competit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ultiple Measur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search Bas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e also p.94-95 in Wallace on the Wik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953480" y="5667480"/>
            <a:ext cx="119052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erformance Pay Prime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228240" y="121932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-68580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ep 2 – Define Procedur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Exampl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udent Assessment (Formulaic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ich Assessment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nalysis Metho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209680" indent="-3808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owth versus Attain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valuation Based (Judgmental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209680" indent="-3808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alid/Reliable Evalu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209680" indent="-3808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vals that Distinguish Elite Performan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rket Sensit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rsonal Goa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dds to Base or Bon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dividual or Group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953480" y="5667480"/>
            <a:ext cx="119052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erformance Pay Prime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228240" y="121932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-685800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ep 3 – Set Targe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Exampl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% of Students Proficient/Advanc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% of Students Making Year’s Growt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% of Students Improving over Last Ye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riterion Bas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eeting/Exceeding High Expect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953480" y="5667480"/>
            <a:ext cx="1190520" cy="1190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03:44:07Z</dcterms:created>
  <dc:creator>test</dc:creator>
  <dc:description/>
  <dc:language>en-US</dc:language>
  <cp:lastModifiedBy>test</cp:lastModifiedBy>
  <dcterms:modified xsi:type="dcterms:W3CDTF">2010-01-08T19:08:14Z</dcterms:modified>
  <cp:revision>4</cp:revision>
  <dc:subject/>
  <dc:title>Hillsborough Township Public Schools</dc:title>
</cp:coreProperties>
</file>